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4A66-981A-477D-8949-F0CBC2C3FE7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BD944-6980-43E0-8397-193FE5009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33DED-39C1-4C35-90A5-4AC986102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14AC5-8F22-4844-83F2-C062F3578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42597-1747-4B0B-BB73-2797D63C2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459F2-542B-4244-8A14-119E5C5BC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2BCAA-72FC-4730-BA62-B883E7030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77EC5-FC4E-4A2D-9139-9EBBA4BDE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AB99D-5B63-4DDE-AC45-224BD06E2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7BF10-AFA6-4BD5-9638-E24A903AB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08433-07BB-48F2-956F-FC4EAD23C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EFFA5-8DEE-43C9-B92A-BF47068CC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F373-C958-4AAE-8EBF-33396939A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4419-93DC-4125-B7DB-6BD60AF88FB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84ED-4B5E-4379-A6B6-AF367C31DB11}"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cp:lastModifiedBy>
  <dcterms:modified xsi:type="dcterms:W3CDTF">2016-12-07T08:31:55Z</dcterms:modified>
  <cp:revision>9</cp:revision>
  <dc:subject/>
  <dc:title>SUPPORT AND TRANSPORT IN PLANTS</dc:title>
</cp:coreProperties>
</file>